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38C-C8EB-47BB-92DE-04EACF58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984-5881-4433-B0BE-1F5C0459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6A3-E9B9-48AA-A0E6-29A4B5F9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B21-E52F-4042-BADD-CC5A4447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C0D-886A-494D-A111-3AA14899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0BC-9895-4991-8207-49CAD072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3825-D3F1-46B1-8E10-1412C9E9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E541-5CEF-40D2-AFA5-354568AC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882-9D3E-4030-9471-360082BB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0377-1A58-4533-A2E1-0A9B7689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D1D-EC10-479F-86D3-9B3F8773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1F1-44E7-403F-A07A-36773003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6806-3285-4554-AC02-C2426232C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Ty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 is the b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238880" cy="4496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1974960" cy="3854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934320" y="2057400"/>
            <a:ext cx="1904760" cy="3471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038480" y="3505320"/>
            <a:ext cx="1071720" cy="1719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867640" cy="5410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wer point is for people who like art caution there are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5486400" cy="3578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is really cool it is awesome I love art  by Tyler.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287440" cy="3581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154944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57800" y="4114800"/>
            <a:ext cx="3657600" cy="2395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057400" y="4267080"/>
            <a:ext cx="297180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is so cool and it is fun my favorite kind of art is Abstract. by Ty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971800" cy="294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 is c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7640" y="1371600"/>
            <a:ext cx="3657600" cy="4572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35400" y="1600200"/>
            <a:ext cx="306396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76920" y="4359240"/>
            <a:ext cx="3504960" cy="2117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705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ake art get a paint brush and you'll need paint and get a white piece of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54000" y="1600200"/>
            <a:ext cx="30448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00640" y="1600200"/>
            <a:ext cx="273384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99200" y="3938760"/>
            <a:ext cx="2735280" cy="2187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47640" y="1981080"/>
            <a:ext cx="365760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ove art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00800" cy="5217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3:23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45Z</dcterms:modified>
  <cp:revision>17</cp:revision>
  <dc:subject/>
  <dc:title>Art</dc:title>
</cp:coreProperties>
</file>